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328-1147-4E79-B26A-ECB922A4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533-4EDA-4111-98DE-B499740B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4AF-C105-4BF5-AE2C-7772A844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58D-471B-447F-A1C0-0C512A4F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9904-5214-486B-B1D2-31A8C8D0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8143-542D-42FD-AF69-F736B785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3505-BCA9-4DC4-A464-890E5655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0765-66F4-48E6-A104-8A87CD0C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7ECA-1A47-4F4B-B4C7-BEB769D7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2D9C-4E50-4181-8AB6-E1AA3FF3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89FD-AA77-44E1-91F4-2F8ABC83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ED5-DAC3-4DD2-AD04-BF331749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F0B8-BE77-46C1-951E-3A5A1ECF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5B6B-8D6F-492D-BFD9-64A49CF4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5E8C-C702-4844-9FF8-E5471373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6FF6-9403-4255-86A5-FB05D063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3084-16E9-4E68-A3CA-CE336EB3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38A-7E2A-46E3-B977-223B0D4F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D79-8BF1-4808-821C-DDFC6B72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F007-3D20-4608-BD35-DED04DE4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49C-1B97-4803-9459-780CF830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8A9-4924-415C-A32E-40610809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D45-A789-4035-ACF1-EA3B7181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6B0-64D9-4390-9511-1E1C55EA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ba0023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ba0023"/>
                </a:gs>
                <a:gs pos="50000">
                  <a:srgbClr val="cc3300"/>
                </a:gs>
                <a:gs pos="100000">
                  <a:srgbClr val="ba00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ba0023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ba0023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cc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cc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D574-FF6A-47F9-A25E-3B6DD810FC6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ba0023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ba0023"/>
                </a:gs>
                <a:gs pos="50000">
                  <a:srgbClr val="cc3300"/>
                </a:gs>
                <a:gs pos="100000">
                  <a:srgbClr val="ba00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ba0023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ba0023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cc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cc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791D-DC1B-4CB8-B251-B7D0C1E96856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foarica.cl/1ta/Incas_Pukara_Guaman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33"/>
                </a:solidFill>
                <a:latin typeface="Snap ITC"/>
              </a:rPr>
              <a:t>CULTURAS PREHISPÁNICAS DEL PERÚ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9933"/>
                </a:solidFill>
                <a:latin typeface="Snap ITC"/>
              </a:rPr>
              <a:t>CHANKA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99" name="Picture 7" descr="AMAUTA"/>
          <p:cNvPicPr/>
          <p:nvPr/>
        </p:nvPicPr>
        <p:blipFill>
          <a:blip r:embed="rId1"/>
          <a:stretch/>
        </p:blipFill>
        <p:spPr>
          <a:xfrm>
            <a:off x="826920" y="3645000"/>
            <a:ext cx="190512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33"/>
                </a:solidFill>
                <a:latin typeface="Comic Sans MS"/>
              </a:rPr>
              <a:t>Aspecto Geográfico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entro: Apurímac (Andahuaylas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e extendieron a Ayacucho y Huancavel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(Sierra Su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SonOk"/>
          <p:cNvPicPr/>
          <p:nvPr/>
        </p:nvPicPr>
        <p:blipFill>
          <a:blip r:embed="rId1"/>
          <a:stretch/>
        </p:blipFill>
        <p:spPr>
          <a:xfrm>
            <a:off x="1547640" y="4724280"/>
            <a:ext cx="2513160" cy="1463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karte13-Peru-chanka-kultur-ESP"/>
          <p:cNvPicPr/>
          <p:nvPr/>
        </p:nvPicPr>
        <p:blipFill>
          <a:blip r:embed="rId2"/>
          <a:stretch/>
        </p:blipFill>
        <p:spPr>
          <a:xfrm>
            <a:off x="1441440" y="1413000"/>
            <a:ext cx="27702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33"/>
                </a:solidFill>
                <a:latin typeface="Comic Sans MS"/>
              </a:rPr>
              <a:t>Aspecto Histórico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Se desarrollaron en el periodo llamado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INTERMEDIO TARDÍO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, luego de la desaparición del Imperio Wari u Horizonte Medi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xistieron al mismo tiempo que: Chincha, Cajamarca, Chachapoyas, Reinos Aymaras, Chimú y Reino del Cuz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7" descr="Mapa"/>
          <p:cNvPicPr/>
          <p:nvPr/>
        </p:nvPicPr>
        <p:blipFill>
          <a:blip r:embed="rId1"/>
          <a:stretch/>
        </p:blipFill>
        <p:spPr>
          <a:xfrm>
            <a:off x="4572000" y="1484280"/>
            <a:ext cx="385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33"/>
                </a:solidFill>
                <a:latin typeface="Comic Sans MS"/>
              </a:rPr>
              <a:t>Aspecto Socio-político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Confederación o alianza de diversas tribus guerreras (como los Wankas, Pokras y Chank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Jefes =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sinc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8" descr="ejercito5"/>
          <p:cNvPicPr/>
          <p:nvPr/>
        </p:nvPicPr>
        <p:blipFill>
          <a:blip r:embed="rId1"/>
          <a:stretch/>
        </p:blipFill>
        <p:spPr>
          <a:xfrm>
            <a:off x="4653000" y="1844640"/>
            <a:ext cx="380988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33"/>
                </a:solidFill>
                <a:latin typeface="Comic Sans MS"/>
              </a:rPr>
              <a:t>Guerreros Chanka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Feroces guerreros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, eran muy temidos por sus costumbres sanguinarias (como hacer tambores con la piel de sus enemigos o beber chicha en el cráneo del jefe riva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9" descr="1242693994_chanka"/>
          <p:cNvPicPr/>
          <p:nvPr/>
        </p:nvPicPr>
        <p:blipFill>
          <a:blip r:embed="rId1"/>
          <a:stretch/>
        </p:blipFill>
        <p:spPr>
          <a:xfrm>
            <a:off x="395280" y="2924280"/>
            <a:ext cx="3394080" cy="3632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runa"/>
          <p:cNvPicPr/>
          <p:nvPr/>
        </p:nvPicPr>
        <p:blipFill>
          <a:blip r:embed="rId2"/>
          <a:stretch/>
        </p:blipFill>
        <p:spPr>
          <a:xfrm>
            <a:off x="2552760" y="1484280"/>
            <a:ext cx="223524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33"/>
                </a:solidFill>
                <a:latin typeface="Comic Sans MS"/>
              </a:rPr>
              <a:t>Guerra Chankas vs. Inka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ntraron en conflicto con la expansión de los Inkas del Cuzco, ya que ambos pueblos querían expandirse y necesitaban eliminar a sus rivales. Por eso, se produjo una guerra decisiva entre amb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8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62360" y="3933720"/>
            <a:ext cx="224964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CHANCAS"/>
          <p:cNvPicPr/>
          <p:nvPr/>
        </p:nvPicPr>
        <p:blipFill>
          <a:blip r:embed="rId3"/>
          <a:stretch/>
        </p:blipFill>
        <p:spPr>
          <a:xfrm>
            <a:off x="539640" y="3860640"/>
            <a:ext cx="3197160" cy="26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INCAS"/>
          <p:cNvPicPr/>
          <p:nvPr/>
        </p:nvPicPr>
        <p:blipFill>
          <a:blip r:embed="rId4"/>
          <a:stretch/>
        </p:blipFill>
        <p:spPr>
          <a:xfrm>
            <a:off x="5940360" y="3933720"/>
            <a:ext cx="244800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33"/>
                </a:solidFill>
                <a:latin typeface="Comic Sans MS"/>
              </a:rPr>
              <a:t>Resultado de la guerra vs. Chankas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uando los Chankas habían sitiado el Cuzco y estaban a punto de conquistarlo, surgió la figura de líder de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PACHACÚTEC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, quien logró derrotar a los Chankas (leyenda de Pururauc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inti_raymi_incas"/>
          <p:cNvPicPr/>
          <p:nvPr/>
        </p:nvPicPr>
        <p:blipFill>
          <a:blip r:embed="rId1"/>
          <a:stretch/>
        </p:blipFill>
        <p:spPr>
          <a:xfrm>
            <a:off x="395280" y="1125360"/>
            <a:ext cx="2397240" cy="338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guerreros"/>
          <p:cNvPicPr/>
          <p:nvPr/>
        </p:nvPicPr>
        <p:blipFill>
          <a:blip r:embed="rId2"/>
          <a:stretch/>
        </p:blipFill>
        <p:spPr>
          <a:xfrm>
            <a:off x="2771640" y="3213000"/>
            <a:ext cx="2114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9933"/>
                </a:solidFill>
                <a:latin typeface="Comic Sans MS"/>
              </a:rPr>
              <a:t>Consecuencias de la guerra vs. Chankas</a:t>
            </a:r>
            <a:endParaRPr b="0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ibres de la amenaza chanka, los Inkas pudieron comenzar su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pansión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onquistando otros territorios andinos. Así se pudo formar el Tawantinsuyo o Imperio In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jlm3a"/>
          <p:cNvPicPr/>
          <p:nvPr/>
        </p:nvPicPr>
        <p:blipFill>
          <a:blip r:embed="rId1"/>
          <a:stretch/>
        </p:blipFill>
        <p:spPr>
          <a:xfrm>
            <a:off x="3635280" y="3068640"/>
            <a:ext cx="2640240" cy="14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INCAS"/>
          <p:cNvPicPr/>
          <p:nvPr/>
        </p:nvPicPr>
        <p:blipFill>
          <a:blip r:embed="rId2"/>
          <a:stretch/>
        </p:blipFill>
        <p:spPr>
          <a:xfrm>
            <a:off x="6300720" y="981000"/>
            <a:ext cx="2513160" cy="2332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jlm13"/>
          <p:cNvPicPr/>
          <p:nvPr/>
        </p:nvPicPr>
        <p:blipFill>
          <a:blip r:embed="rId3"/>
          <a:stretch/>
        </p:blipFill>
        <p:spPr>
          <a:xfrm>
            <a:off x="250920" y="1557360"/>
            <a:ext cx="3960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2:38:27Z</dcterms:created>
  <dc:creator>Beautiful Lia</dc:creator>
  <dc:description/>
  <dc:language>en-US</dc:language>
  <cp:lastModifiedBy>Computo</cp:lastModifiedBy>
  <dcterms:modified xsi:type="dcterms:W3CDTF">2009-11-16T22:18:59Z</dcterms:modified>
  <cp:revision>20</cp:revision>
  <dc:subject/>
  <dc:title>CULTURAS PREHISPÁNICAS DEL PERÚ  CHANCAS</dc:title>
</cp:coreProperties>
</file>